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5A84-8580-4CAE-8E4B-19994B19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7DAC-24AC-48A9-B2C5-5EF8E612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08C2-07EE-4E67-AC3B-23EB6F3E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F21-7FCE-481C-9823-EF5F1469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7FF-5D87-4B86-807F-6AC0092E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D56-2697-4AB3-AF30-EFEF6FD3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82C-4783-4E28-9079-E89E9685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A5D-58CA-4316-8ADE-899CF8D8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642-4306-4305-BE4D-961BC932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A8E-06BB-4221-BB1E-52052EAD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803-5387-409C-B992-1536E878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BF2-5751-4DEC-A642-FC837DD0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11C-DDAC-45D9-B1E1-E88EAC6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B63-B80E-4361-9D25-BECDC63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931-0B4C-46F2-8375-BECB290F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2D30-31E6-40FB-9B1C-357D0082A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Cisco Provider Connectiv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GT-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L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155600" y="3144960"/>
            <a:ext cx="68328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L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55600" y="3144960"/>
            <a:ext cx="68328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LX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LX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ule 10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062160" y="3208320"/>
            <a:ext cx="3019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ule 10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3062160" y="3132000"/>
            <a:ext cx="30196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ule 1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330720" y="3227400"/>
            <a:ext cx="24825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ule 1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330720" y="3132000"/>
            <a:ext cx="24825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SFP (copp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419720" y="3467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SFP (opti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419720" y="3467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839960" y="1382760"/>
            <a:ext cx="54640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39960" y="906480"/>
            <a:ext cx="5464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Cap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839960" y="887400"/>
            <a:ext cx="54640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39960" y="1382760"/>
            <a:ext cx="54640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Mod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839960" y="2117880"/>
            <a:ext cx="54640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N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839960" y="2806560"/>
            <a:ext cx="5464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S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735360" y="887400"/>
            <a:ext cx="16732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1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62000" y="3146400"/>
            <a:ext cx="8820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100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62000" y="3146400"/>
            <a:ext cx="8820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25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541600" y="3235320"/>
            <a:ext cx="40608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25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541600" y="3235320"/>
            <a:ext cx="40608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G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G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GT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24-07-18T17:02:21Z</dcterms:modified>
  <cp:revision>5</cp:revision>
  <dc:subject/>
  <dc:title>Slide 1</dc:title>
</cp:coreProperties>
</file>